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191-BDD8-4693-A520-4849CA2A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F09-32D6-4C4B-AE58-1365E701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F09-7C99-4011-A1D3-11215F67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F53-E284-4601-B2E5-F41904A0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FC15-A41A-4F78-AF92-DEB232F4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E23C-2CE8-498D-8E86-20D0E6C9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D398-6939-4A30-8143-04573EC2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07CD-27EB-43DB-9171-4CA1DB0F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C3EB-DB88-4ACD-8972-07B94D31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5484-6EEF-4545-B996-8DFB4F65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9A12-68DC-4D51-A6C6-CCCF8CF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E31-B06C-4C93-8081-978BCA7E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7554-411A-44FA-934A-D893CA3C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7C28-A457-4226-8C6E-D99C354A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B6E2-1A70-4EDB-94AC-8FEF369E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2563-6644-496C-AE88-387BF4CB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A2D9-FF55-4BA0-9DF1-3E7A49B4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B61-843A-411C-8D65-F6776A65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0C8-3FD5-4E58-8639-BB4E1A9B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C70-1E1A-4FF7-9752-9D067170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C87-A4E4-49F6-B657-7EC5A6C6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0B4-80D6-4009-B9E6-D99AFD53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DEC-CB09-468B-8A17-1C467F9F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ABE-4D39-40D2-8D80-3FDCC4C5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15AB-58F9-4BDE-AAFC-20D8BB2093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AF0B-8C12-4D2D-B217-5762D9082B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ходы. От большого ко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25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зоне остановки попадает в ДТП треть пострадавших детей, в основном из-за стоя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114800" y="215280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ван к интересующему его предмету – автобус на другой стороне дороги, при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 дорожным “ловушкам” могут привести и еще два изобрете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 водителей тоже притупляется внимание, и они едут быстрее обычного, не предполагая появления пе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акие дороги часто стано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0-04-06T05:06:2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