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F60B-B222-4E76-A638-3056B0533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49C6-2B52-4449-B654-145DC97E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637A-AC29-4878-9907-BBD603A68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F456-2D28-4AE6-B857-B0ADAFE6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DF9A-33BF-4313-9E5B-856C30D2F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DD2B-C5F5-4C56-94A7-936A2E87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5DC4-CDF0-4B4C-9D9B-E83B70A4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92E4-1659-4697-A4D3-AFCF2A51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E8C7-BA4D-4B28-A8BB-F14E1B2D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BD04-B751-44CB-85B9-CCEC056F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D2C4-1F0F-4783-8FA1-D7C2F59B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AD22-87E4-4554-8A35-A2585530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31F7-D731-4A7D-A072-04E86A16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7DBD-CFA2-4B40-B7A2-AAB68E58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0D25-83DA-4D1A-9BB1-16E9ABF1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7542-AFB3-4F6D-8F5E-40A7D0534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1803-5117-47E3-B535-24803B17B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4969-6A3E-4C19-BFD6-0B86C90A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2D9E-14D1-4C12-8D3F-176F5207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1117-C4CE-4979-94DC-0D09D2DE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3D95-0BA9-457D-B458-28403E67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585B-CC2E-4B9F-8343-C3003EA7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D797-B680-4771-81FD-36F39A63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EE81-5B34-4B22-B2D0-C5E1D5E2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69D9-96AD-45AA-8ADC-F57A56A8298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F5CA-D48C-4C5F-AF1D-69BCDB7C8CE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Дорожные </a:t>
            </a:r>
            <a:br>
              <a:rPr sz="3400"/>
            </a:b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ситуации – «ловушки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05120" y="1828800"/>
            <a:ext cx="5410080" cy="40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00100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середины дорог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ешеход, находящийся между потоками движущихся автомобилей, сильно испуган и его поведение хаотично и не поддается логике и прогноз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бзор могут закрывать стоящие рядом пешеходы. От большого количества мелькающих рядом автомашин может закружиться голова, и пешеход потеряет равновес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rcRect l="45026" t="28519" r="3031" b="9096"/>
          <a:stretch/>
        </p:blipFill>
        <p:spPr>
          <a:xfrm>
            <a:off x="5562720" y="1752480"/>
            <a:ext cx="2938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408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при движении вдоль проезжей част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7025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В эту ситуацию пешеход может попасть, если идет по дороге в нарушение правил дорожного движения, то есть по ходу движения транспортных средств. В этом случае движение автомобилей происходит со спины, и пешеход не видит опасность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Автомобиль на скользкой дороге может вильнуть, или груз выступает за борта – все это грозит пешеходу травмам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закрытого обзора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Это дорожные ситуации, когда опасность скрыта от пешехода за кустами, деревьями, забором, сугробом, стоящими и движущимися автомобилями, другими пешеходами. Обзору дороги могут мешать повороты, спуски и подъемы самой дорог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105520" y="3886200"/>
            <a:ext cx="3581280" cy="2276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05520" y="1523880"/>
            <a:ext cx="358128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в зоне остановки маршрутного транспор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259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В зоне остановки попадает в ДТП треть пострадавших детей, в основном из-за стоящих маршрутных транспортных средств – большой помехи обзору на дороге и спешки пешеходов или пассажир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0" t="981" r="13762" b="0"/>
          <a:stretch/>
        </p:blipFill>
        <p:spPr>
          <a:xfrm>
            <a:off x="4114800" y="2152800"/>
            <a:ext cx="4419720" cy="30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на пешеходном перехо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Обычно думают, что пешеходный переход – это безопасная зона, на которой с пешеходом ничего не может случиться. А ведь и здесь остановившийся автомобиль может скрывать движущийся, равно как и проехавший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800600" y="1676520"/>
            <a:ext cx="3886200" cy="2095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792680" y="3941640"/>
            <a:ext cx="3894120" cy="20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26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Ловушки” на углу перекрест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7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Опасность на углу перекрестка состоит в том, что автотранспорт может поворачивать направо, при этом и водителю, и пешеходу горит зеленый сигнал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Иногда задние колеса автобусов, грузовиков, прицепов оказываются очень близко к тротуару, бывает неопытный водитель выезжает на “бровку” тротуара, к тому же автотранспорт может быть с прицепом или буксировать другой автомобил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743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0400" y="2544840"/>
            <a:ext cx="3927240" cy="26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у светоф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319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У светофора, нельзя забывать, что на дороге могут возникнуть самые непредвиденные обстоятельства, например, поедут на красный сигнал спецавтомашины (скорая помощь, милиция, пожарная); могут быть и водители, нарушающие ПДД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Нередко и сами пешеходы, как взрослые, так и дети, переходят дорогу на красный сигнал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895480"/>
            <a:ext cx="79250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114800" y="2057400"/>
            <a:ext cx="48769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Ловушки” отвлечения вним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853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Пешеход не замечает опасность, потому что его взгляд прикован к интересующему его предмету – автобус на другой стороне дороги, приятель, мяч, собака, луж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К дорожным “ловушкам” могут привести и еще два изобретения – плеер и мобильный телефон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0" t="0" r="0" b="5202"/>
          <a:stretch/>
        </p:blipFill>
        <p:spPr>
          <a:xfrm>
            <a:off x="4876920" y="3962520"/>
            <a:ext cx="3581280" cy="2057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19171" t="2190" r="5766" b="0"/>
          <a:stretch/>
        </p:blipFill>
        <p:spPr>
          <a:xfrm>
            <a:off x="4876920" y="1676520"/>
            <a:ext cx="3593880" cy="21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Ловушки” понижения вним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462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о дороге, окруженной жилыми домами, зеленью,  редко проезжает транспорт, и создается ложное представление об отсутствии угроз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У водителей тоже притупляется внимание, и они едут быстрее обычного, не предполагая появления пешеход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акие дороги часто становятся любимым местом роллеров, скейтбордистов, а также для различных игр, катания на санках и коньк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2514600"/>
            <a:ext cx="79250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181480" y="2362320"/>
            <a:ext cx="3702240" cy="24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Ловушки”, подстерегающие возле до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4800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ельзя выбегать, не осмотревшись, из-за стоящего транспорта. Если возле дома стоит автомобиль, необходимо помнить, что он может поехать вперед, не подав сигнал, или, что опаснее, – задним ход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собенно опасны грузовики-фургоны, такси и автомобили скорой помощи. Водителям грузовиков трудно наблюдать и замечать пешеходов. Такси и “скорая помощь” часто спеша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оезды у домов часто становятся местом для иг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486400" y="1600200"/>
            <a:ext cx="2971800" cy="2200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486400" y="3962520"/>
            <a:ext cx="2971800" cy="233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алина</cp:lastModifiedBy>
  <dcterms:modified xsi:type="dcterms:W3CDTF">2010-04-06T05:06:20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