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37EE-B40B-4C42-BC06-E700D2B45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4B72-3ADF-49ED-B1AE-109D72D77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87BC-A198-417A-A2D2-AECD2991D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3CC3-55B5-453F-9DC0-634B531A9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A297B-AB7A-4D13-AE96-84E6E4C13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35C06-2FA8-4673-B164-C97D0A2A3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58B73-9AB0-4DA2-B504-9EE1884F8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407A4-0F5D-431B-A3C4-A875CF3F2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ED336-4A54-4990-8F89-C9C368A39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A696E-C756-4EDD-A7F3-71D143688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B5CA0-17A9-4169-A4E6-1D5227B2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66F8-5460-43AA-B8ED-11E7A02EF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0E04B-BFB5-405B-AEB6-39B309C2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0D2CC-9A9E-4872-A1D5-8BDF0437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FC851-9100-4887-BC64-172FA69DC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AED18-9699-4A76-9856-47C1ACB79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D7345-08F3-4DAF-9091-A66E3E550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AAC6-4AAA-443D-907E-1D4B40715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8C04-042B-4050-BA37-06D0925D9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499B-F226-4682-8B5D-4A65775D8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94EF-FED9-4828-8316-25E674863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D4E7-B502-416C-A9B2-726DFFEB6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255D-6A8F-4EEB-9BF9-4ED409F5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B2FD-BC91-4EF1-956D-AE918A3F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1110B-4B9B-4B27-AEAD-67065F33952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2DBA4-8C1A-4124-B37E-919897E9AA2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Дорожные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ситуации – «ловушки»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905120" y="1828800"/>
            <a:ext cx="5410080" cy="406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0010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Ловушки” середины дорог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7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ешеход, находящийся между потоками движущихся автомобилей, сильно испуган и его поведение хаотично и не поддается логике и прогнозу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бзор могут закрывать стоящие рядом пешеходы. От большого количества мелькающих рядом автомашин может закружиться голова, и пешеход потеряет равновесие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2743200"/>
            <a:ext cx="7924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rcRect l="45026" t="28519" r="3031" b="9096"/>
          <a:stretch/>
        </p:blipFill>
        <p:spPr>
          <a:xfrm>
            <a:off x="5562720" y="1752480"/>
            <a:ext cx="29383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3408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Ловушки” при движении вдоль проезжей части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7025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В эту ситуацию пешеход может попасть, если идет по дороге в нарушение правил дорожного движения, то есть по ходу движения транспортных средств. В этом случае движение автомобилей происходит со спины, и пешеход не видит опасность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Автомобиль на скользкой дороге может вильнуть, или груз выступает за борта – все это грозит пешеходу травмам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Ловушки” закрытого обзора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7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Это дорожные ситуации, когда опасность скрыта от пешехода за кустами, деревьями, забором, сугробом, стоящими и движущимися автомобилями, другими пешеходами. Обзору дороги могут мешать повороты, спуски и подъемы самой дороги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105520" y="3886200"/>
            <a:ext cx="3581280" cy="2276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05520" y="1523880"/>
            <a:ext cx="3581280" cy="22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овушки” в зоне остановки маршрутного транспорт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259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В зоне остановки попадает в ДТП треть пострадавших детей, в основном из-за стоящих маршрутных транспортных средств – большой помехи обзору на дороге и спешки пешеходов или пассажиров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rcRect l="0" t="981" r="13762" b="0"/>
          <a:stretch/>
        </p:blipFill>
        <p:spPr>
          <a:xfrm>
            <a:off x="4114800" y="2152800"/>
            <a:ext cx="4419720" cy="30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0010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овушки” на пешеходном переход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7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Обычно думают, что пешеходный переход – это безопасная зона, на которой с пешеходом ничего не может случиться. А ведь и здесь остановившийся автомобиль может скрывать движущийся, равно как и проехавший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800600" y="1676520"/>
            <a:ext cx="3886200" cy="20955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792680" y="3941640"/>
            <a:ext cx="3894120" cy="20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26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Ловушки” на углу перекрестк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7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Опасность на углу перекрестка состоит в том, что автотранспорт может поворачивать направо, при этом и водителю, и пешеходу горит зеленый сигнал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Иногда задние колеса автобусов, грузовиков, прицепов оказываются очень близко к тротуару, бывает неопытный водитель выезжает на “бровку” тротуара, к тому же автотранспорт может быть с прицепом или буксировать другой автомобиль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2743200"/>
            <a:ext cx="7924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640400" y="2544840"/>
            <a:ext cx="3927240" cy="268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00100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Ловушки” у светофо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3195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У светофора, нельзя забывать, что на дороге могут возникнуть самые непредвиденные обстоятельства, например, поедут на красный сигнал спецавтомашины (скорая помощь, милиция, пожарная); могут быть и водители, нарушающие ПДД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Нередко и сами пешеходы, как взрослые, так и дети, переходят дорогу на красный сигнал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2895480"/>
            <a:ext cx="792504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114800" y="2057400"/>
            <a:ext cx="4876920" cy="30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Ловушки” отвлечения вним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853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Пешеход не замечает опасность, потому что его взгляд прикован к интересующему его предмету – автобус на другой стороне дороги, приятель, мяч, собака, лужа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К дорожным “ловушкам” могут привести и еще два изобретения – плеер и мобильный телефон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rcRect l="0" t="0" r="0" b="5202"/>
          <a:stretch/>
        </p:blipFill>
        <p:spPr>
          <a:xfrm>
            <a:off x="4876920" y="3962520"/>
            <a:ext cx="3581280" cy="20574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rcRect l="19171" t="2190" r="5766" b="0"/>
          <a:stretch/>
        </p:blipFill>
        <p:spPr>
          <a:xfrm>
            <a:off x="4876920" y="1676520"/>
            <a:ext cx="3593880" cy="213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овушки” понижения вним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44625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о дороге, окруженной жилыми домами, зеленью,  редко проезжает транспорт, и создается ложное представление об отсутствии угрозы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У водителей тоже притупляется внимание, и они едут быстрее обычного, не предполагая появления пешеходов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Такие дороги часто становятся любимым местом роллеров, скейтбордистов, а также для различных игр, катания на санках и конька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2514600"/>
            <a:ext cx="792504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181480" y="2362320"/>
            <a:ext cx="3702240" cy="241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Ловушки”, подстерегающие возле дом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4800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Нельзя выбегать, не осмотревшись, из-за стоящего транспорта. Если возле дома стоит автомобиль, необходимо помнить, что он может поехать вперед, не подав сигнал, или, что опаснее, – задним ходо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собенно опасны грузовики-фургоны, такси и автомобили скорой помощи. Водителям грузовиков трудно наблюдать и замечать пешеходов. Такси и “скорая помощь” часто спеша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оезды у домов часто становятся местом для игр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486400" y="1600200"/>
            <a:ext cx="2971800" cy="22003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486400" y="3962520"/>
            <a:ext cx="2971800" cy="2333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алина</cp:lastModifiedBy>
  <dcterms:modified xsi:type="dcterms:W3CDTF">2010-04-06T05:06:20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