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C06-1797-46B4-BE83-62B46236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090-FC5A-4C93-B774-AA27187E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29D-890E-4C09-99E0-0AB75FD7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C6E-5091-4ED0-BF39-3A8F605C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236F-179F-4EC8-B6DD-8C5DD509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AC42-1BE0-4874-AC53-8B502374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6F27-327A-413F-9060-38B03301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38BD-0B99-457F-90E5-7EE8ED94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588E-AEFD-4B44-9CB5-83DB1D91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3CB7-8EF5-4A5F-B5CA-C0C99001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B2A7-1EFB-4334-B27B-A45EFEE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9ED-2B0E-42C5-B6C5-BECF964C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6C86-E060-41C4-9015-DB5C3B3F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EAC1-2791-4BEB-B299-D4A50F9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6523-F7F1-4365-AD11-6C1B3CFC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23F8-1A90-43AE-AC03-A43E5DEF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04BD-5A5C-4429-8ACB-4B476946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551-2449-4FDA-8DE1-2F5209B3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853-96EE-4288-A425-EB8B6700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F3B-4EED-4A4E-AB7A-D47C4AD7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3CF-598C-4838-B068-8A8117AA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5DC-68F9-46B9-875C-D9FCA2D8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853-42F1-473B-8F19-A0FA1BD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81D-E480-4B6F-954E-514613F7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80E9-7A6E-4ED2-8EB9-CCC45AA0D5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A1C9-7831-4C78-AC80-248A9AD706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ходы. От большого ко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25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зоне остановки попадает в ДТП треть пострадавших детей, в основном из-за стоя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114800" y="215280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ван к интересующему его предмету – автобус на другой стороне дороги, при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 дорожным “ловушкам” могут привести и еще два изобрете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 водителей тоже притупляется внимание, и они едут быстрее обычного, не предполагая появления пе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акие дороги часто стано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0-04-06T05:06:2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